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2AA7-E243-4355-B2FF-F61B17B3D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84D4-63FC-464E-8ACC-8857F037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C1E2-E31E-41BA-BD3A-578A02A2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C720-8A44-4618-924D-204D6B68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7F4C-7734-4AE4-AACD-EDC73DB5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1E3A-6F6F-4E28-B41D-6CCB633F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DB8B-ABD8-4AEB-9C9E-EC49372B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F7A7-1EAA-456E-A70E-21769766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3C26-BF07-40CC-93BC-A31F1A88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2EAE-9320-444E-B576-AA272796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E5BD-D51D-4EE3-A171-CD0F0A6E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3387-1C83-4402-A3B1-0824B4C3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EAEA-5177-4C6B-B4CB-24CFE4A9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2E69-A6C4-4B2B-94B3-76C9A219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45C9-BC74-44B9-B74C-FB7BA391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FBB1-F9D4-476A-8806-7699C8BB9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E76E-BF9C-4A48-A146-F18300E6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1FC5-B59D-42CB-97E3-95F76987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301E-B47C-4432-B988-240ACB6C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5BF2-D799-4101-BC61-304BD489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CDE6-A64C-4E22-8F2D-08377777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D178-5222-4ABF-9BF1-4CFA9E80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F44D-F606-4F38-97BC-8098F07B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28C6-A034-4B2F-A420-34C7A0C8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6" descr="D:\FRONTPAGE THEMES\ARTSY\ARTHSEPA.PNG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8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600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af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7EA8-8F9C-4121-98E6-393304B492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8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6" descr="D:\FRONTPAGE THEMES\ARTSY\ARTBANNA.PNG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7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600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af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600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1F93-13A9-4595-A6F9-5B5D6B5AEAA6}" type="slidenum"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6153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Chapter 5:  Reading and Evaluating Arguments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429000"/>
            <a:ext cx="610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33"/>
                </a:solidFill>
                <a:uFillTx/>
                <a:latin typeface="Arial"/>
              </a:rPr>
              <a:t>Academic Reading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By Kathleen T. McWhorter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(4th Edition)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511720" y="5562720"/>
            <a:ext cx="493704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Powerpoint by Gretchen Starks-Martin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St. Cloud State University, Minnesota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78228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60009"/>
                </a:solidFill>
                <a:latin typeface="Arial"/>
              </a:rPr>
              <a:t>Inductive and Deductive Arguments</a:t>
            </a:r>
            <a:endParaRPr b="0" lang="en-US" sz="40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DEDUCTIVE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- begins with a major premise and moves toward a more specific statement or minor premise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Athletes possess physical stamina. Because Anthony is an athlete, he must possess physical stamina.”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16" name="Object 0" descr=""/>
          <p:cNvPicPr/>
          <p:nvPr/>
        </p:nvPicPr>
        <p:blipFill>
          <a:blip r:embed="rId1"/>
          <a:stretch/>
        </p:blipFill>
        <p:spPr>
          <a:xfrm>
            <a:off x="5943600" y="4952880"/>
            <a:ext cx="2170080" cy="15987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1295280" y="5486400"/>
            <a:ext cx="1371600" cy="1143000"/>
          </a:xfrm>
          <a:prstGeom prst="flowChartMerge">
            <a:avLst/>
          </a:prstGeom>
          <a:solidFill>
            <a:srgbClr val="cccc00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78228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60009"/>
                </a:solidFill>
                <a:latin typeface="Arial"/>
              </a:rPr>
              <a:t>Strategies for Reading an Argument</a:t>
            </a:r>
            <a:endParaRPr b="0" lang="en-US" sz="40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What does the title suggest?  Preview!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Who is the author, and what are his or her qualifications?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What is the date of publication?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What do I already know about the issue?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0" name="WordArt 5"/>
          <p:cNvSpPr txBox="1"/>
          <p:nvPr/>
        </p:nvSpPr>
        <p:spPr>
          <a:xfrm>
            <a:off x="2438280" y="2209680"/>
            <a:ext cx="4160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ink Before You Rea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8228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60009"/>
                </a:solidFill>
                <a:latin typeface="Arial"/>
              </a:rPr>
              <a:t>Strategies for Reading an Argument</a:t>
            </a:r>
            <a:endParaRPr b="0" lang="en-US" sz="40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Read once for an initial impression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Read the argument several more times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Annotate as you read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Highlight key terms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Diagram or map to analyze structure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2438280" y="2209680"/>
            <a:ext cx="4160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ad Activel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7160" y="78228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60009"/>
                </a:solidFill>
                <a:latin typeface="Arial"/>
              </a:rPr>
              <a:t>Strategies for Evaluating Arguments</a:t>
            </a:r>
            <a:endParaRPr b="0" lang="en-US" sz="40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Evaluate Types of Evidence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- Is it sufficient to support the claim?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Personal Experience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- may be biased, so do not accept i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- should not be used by themselve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8228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60009"/>
                </a:solidFill>
                <a:latin typeface="Arial"/>
              </a:rPr>
              <a:t>Strategies for Evaluating Arguments</a:t>
            </a:r>
            <a:endParaRPr b="0" lang="en-US" sz="40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Statistics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- can be misused, manipulated or misinterpreted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Comparisons and Analogies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- reliability depends on how closely they correspond to the situation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Relevancy and Sufficiency of Evidence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- is there enough of the right kind to support the claim?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7160" y="78228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60009"/>
                </a:solidFill>
                <a:latin typeface="Arial"/>
              </a:rPr>
              <a:t>Strategies for Evaluating Arguments</a:t>
            </a:r>
            <a:endParaRPr b="0" lang="en-US" sz="40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Definition of Terms -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hould be carefully defined and used consistently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Cause-Effect Relationships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- evidence that the relationship exists should be presen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Implied or Stated Value System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- are they consistent with your personal value system?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8228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60009"/>
                </a:solidFill>
                <a:latin typeface="Arial"/>
              </a:rPr>
              <a:t>Strategies for Evaluating Arguments</a:t>
            </a:r>
            <a:endParaRPr b="0" lang="en-US" sz="40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Recognizing and Refuting Opposing Viewpoint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Question the accuracy, relevancy or sufficiency of the opponent’s evidence.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Does the author address opposing viewpoints clearly and fairly?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Does the author refute the opposing viewpoint with logic and relevant evidence?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7160" y="78228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60009"/>
                </a:solidFill>
                <a:latin typeface="Arial"/>
              </a:rPr>
              <a:t>Strategies for Evaluating Arguments</a:t>
            </a:r>
            <a:endParaRPr b="0" lang="en-US" sz="40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Unfair Emotional Appeal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Emotionally Charged or Biased Language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False Authority 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athletes endorsing underwear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movie stars selling shampoo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Association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a car being named a Cougar to remind you of a sleek animal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a cigarette advertisement featuring a scenic waterfall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7160" y="78228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60009"/>
                </a:solidFill>
                <a:latin typeface="Arial"/>
              </a:rPr>
              <a:t>Strategies for Evaluating Arguments</a:t>
            </a:r>
            <a:endParaRPr b="0" lang="en-US" sz="40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Unfair Emotional Appeal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Appeal to “Common Folk”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an ad showing a product being used in an average household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a politician suggesting he is like everyone else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Ad Hominem - attack on the person rather than his/her viewpoint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Join the Crowd” Appeal or Bandwagon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842760"/>
            <a:ext cx="863748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60009"/>
                </a:solidFill>
                <a:latin typeface="Arial"/>
              </a:rPr>
              <a:t>What emotional appeal is being used?</a:t>
            </a:r>
            <a:endParaRPr b="0" lang="en-US" sz="36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2818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Come early so you won’t have to stand in line – because everyone knows you can make a deal with Dave and save.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As a test pilot, Susan Gibbs knows performance.  “That’s why I drive a Mustang,” she says.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Olson’s pizzas are lower in fat and calories.  Other pizza makers don’t care about your health.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Learning Objectives: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o recognize the elements of an argumen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o recognize types of argument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o evaluate argument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o recognize errors in logical reasoning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93" name="Object 1024" descr=""/>
          <p:cNvPicPr/>
          <p:nvPr/>
        </p:nvPicPr>
        <p:blipFill>
          <a:blip r:embed="rId1"/>
          <a:stretch/>
        </p:blipFill>
        <p:spPr>
          <a:xfrm>
            <a:off x="3044880" y="4267080"/>
            <a:ext cx="225576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7160" y="842760"/>
            <a:ext cx="863748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60009"/>
                </a:solidFill>
                <a:latin typeface="Arial"/>
              </a:rPr>
              <a:t>Emotional appeals continued…</a:t>
            </a:r>
            <a:endParaRPr b="0" lang="en-US" sz="36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8320" y="1752120"/>
            <a:ext cx="8434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We can work magic with your children,” says Eileen of Eileen’s Day Care.  “Call upon us, and your children will be happy you did.”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Liberty Bell Airlines flies anywhere in this great land, from sea to shining sea.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As a young man, Candidate Alan Wilson learned what it means to work hard by spending long hours lifting boxes and sweeping floors working in a department store.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6160" y="304560"/>
            <a:ext cx="8637480" cy="137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Errors in Logical Reasoning</a:t>
            </a:r>
            <a:br>
              <a:rPr sz="4400"/>
            </a:br>
            <a:r>
              <a:rPr b="0" lang="en-US" sz="2000" spc="-1" strike="noStrike">
                <a:solidFill>
                  <a:srgbClr val="b60009"/>
                </a:solidFill>
                <a:latin typeface="Arial"/>
              </a:rPr>
              <a:t>commonly called logical fallacies</a:t>
            </a:r>
            <a:br>
              <a:rPr sz="2000"/>
            </a:br>
            <a:r>
              <a:rPr b="0" lang="en-US" sz="2000" spc="-1" strike="noStrike">
                <a:solidFill>
                  <a:srgbClr val="b60009"/>
                </a:solidFill>
                <a:latin typeface="Arial"/>
              </a:rPr>
              <a:t>invalidate the argument or render argument flawed</a:t>
            </a:r>
            <a:endParaRPr b="0" lang="en-US" sz="20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Circular Reasoning/Begging the Question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Female police officers should not be sent to crime scenes because apprehending criminals is a man’s job.”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Hasty Generalization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- conclusion derived from insufficient evidence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Because one apple is sour,                          all of them in the bowl must                           be sour.”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42" name="Object 4" descr=""/>
          <p:cNvPicPr/>
          <p:nvPr/>
        </p:nvPicPr>
        <p:blipFill>
          <a:blip r:embed="rId1"/>
          <a:stretch/>
        </p:blipFill>
        <p:spPr>
          <a:xfrm>
            <a:off x="6400800" y="4724280"/>
            <a:ext cx="1236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Errors in Logical Reasoning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Non Sequitur (“It Does Not Follow”)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Because my doctor is young, I’m              sure she’ll be a good doctor.”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False Cause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Because I opened the umbrella when I tripped on the sidewalk, the umbrella must have caused me to trip.”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Either-Or Fallacy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de9ab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Because of the violence, TV must be either allowed or banned.”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45" name="Object 5" descr=""/>
          <p:cNvPicPr/>
          <p:nvPr/>
        </p:nvPicPr>
        <p:blipFill>
          <a:blip r:embed="rId1"/>
          <a:stretch/>
        </p:blipFill>
        <p:spPr>
          <a:xfrm>
            <a:off x="7086600" y="2313000"/>
            <a:ext cx="1523880" cy="14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For Each Argument: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Identify the claim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Outline the reasons to support the claim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What types of evidence are used?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Evaluate the adequacy and sufficiency of the evidence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What emotional appeals are used?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Does the author recognize or refute counter arguments?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Comparing the Arguments: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ompare the types of evidence used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Which argument did you find more convincing?  Why?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What further information would be useful in assessing the issue?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1310040"/>
            <a:ext cx="7772400" cy="173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60009"/>
                </a:solidFill>
                <a:latin typeface="Arial"/>
              </a:rPr>
              <a:t>Read the articles on education and complete the activities following each selection.</a:t>
            </a:r>
            <a:endParaRPr b="0" lang="en-US" sz="36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chool Boards Doing Little to Close Gap Between Whites, Minorities”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chool Vouchers:  The Wrong Choice for Public Education”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52" name="Object 4" descr=""/>
          <p:cNvPicPr/>
          <p:nvPr/>
        </p:nvPicPr>
        <p:blipFill>
          <a:blip r:embed="rId1"/>
          <a:stretch/>
        </p:blipFill>
        <p:spPr>
          <a:xfrm>
            <a:off x="304920" y="3352680"/>
            <a:ext cx="2197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842040" y="2590920"/>
            <a:ext cx="6801120" cy="1323000"/>
          </a:xfrm>
          <a:prstGeom prst="rect">
            <a:avLst/>
          </a:prstGeom>
          <a:noFill/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An argument presents logical reasons 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and evidence to support a viewpoin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96" name="Object 1024" descr=""/>
          <p:cNvPicPr/>
          <p:nvPr/>
        </p:nvPicPr>
        <p:blipFill>
          <a:blip r:embed="rId1"/>
          <a:stretch/>
        </p:blipFill>
        <p:spPr>
          <a:xfrm>
            <a:off x="2743200" y="4191120"/>
            <a:ext cx="232884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Parts of an Argument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ISSUE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- problem or controversy about which people disagree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CLAIM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- the position on the issue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SUPPORT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- reasons and evidence that the claim is reasonable and should be accepted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REFUTATION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- opposing viewpoint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Types of Claims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CLAIM OF FACT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- statement that can be proven or verified by observation or research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660033"/>
                </a:solidFill>
                <a:latin typeface="Arial"/>
              </a:rPr>
              <a:t>Within ten years, destruction                   of rain forests will cause                  hundreds of plant and animal           species to become extinct.”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01" name="Object 1024" descr=""/>
          <p:cNvPicPr/>
          <p:nvPr/>
        </p:nvPicPr>
        <p:blipFill>
          <a:blip r:embed="rId1"/>
          <a:stretch/>
        </p:blipFill>
        <p:spPr>
          <a:xfrm>
            <a:off x="6824520" y="2819520"/>
            <a:ext cx="1955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Types of Claims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CLAIM OF VALUE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- states that one thing or idea is better or more desirable than another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660033"/>
                </a:solidFill>
                <a:latin typeface="Arial"/>
              </a:rPr>
              <a:t>Requiring community service                  in high school will produce more community-aware graduates.”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04" name="Object 4" descr=""/>
          <p:cNvPicPr/>
          <p:nvPr/>
        </p:nvPicPr>
        <p:blipFill>
          <a:blip r:embed="rId1"/>
          <a:stretch/>
        </p:blipFill>
        <p:spPr>
          <a:xfrm>
            <a:off x="6858000" y="3602160"/>
            <a:ext cx="205740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Types of Claims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CLAIM OF POLICY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- suggests what should or ought to be done to solve a problem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660033"/>
                </a:solidFill>
                <a:latin typeface="Arial"/>
              </a:rPr>
              <a:t>To reduce school violence, more gun and metal detectors should be installed in public schools.”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07" name="Object 1024" descr=""/>
          <p:cNvPicPr/>
          <p:nvPr/>
        </p:nvPicPr>
        <p:blipFill>
          <a:blip r:embed="rId1"/>
          <a:stretch/>
        </p:blipFill>
        <p:spPr>
          <a:xfrm>
            <a:off x="6019920" y="4572000"/>
            <a:ext cx="251136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Types of Support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REASON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- a general statement that supports a claim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EVIDENCE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- consists of facts, statistics, experiences, comparisons, and examples that show why the claim is valid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EMOTIONAL APPEALS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- ideas that are targeted toward needs or values that readers are likely to care about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7160" y="78228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60009"/>
                </a:solidFill>
                <a:latin typeface="Arial"/>
              </a:rPr>
              <a:t>Inductive and Deductive Arguments</a:t>
            </a:r>
            <a:endParaRPr b="0" lang="en-US" sz="40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60009"/>
                </a:solidFill>
                <a:latin typeface="Arial"/>
              </a:rPr>
              <a:t>INDUCTIVE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- reaches a general conclusion from observed specifics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By observing the performance of a large number of athletes, you could conclude that athletes possess physical stamina.”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12" name="Object 0" descr=""/>
          <p:cNvPicPr/>
          <p:nvPr/>
        </p:nvPicPr>
        <p:blipFill>
          <a:blip r:embed="rId1"/>
          <a:stretch/>
        </p:blipFill>
        <p:spPr>
          <a:xfrm>
            <a:off x="2286000" y="4537080"/>
            <a:ext cx="1982880" cy="18032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6"/>
          <p:cNvSpPr/>
          <p:nvPr/>
        </p:nvSpPr>
        <p:spPr>
          <a:xfrm>
            <a:off x="6477120" y="4952880"/>
            <a:ext cx="1600200" cy="1524240"/>
          </a:xfrm>
          <a:prstGeom prst="triangle">
            <a:avLst>
              <a:gd name="adj" fmla="val 50000"/>
            </a:avLst>
          </a:prstGeom>
          <a:solidFill>
            <a:srgbClr val="cccc00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1T19:04:19Z</dcterms:created>
  <dc:creator>LR&amp;TS</dc:creator>
  <dc:description/>
  <dc:language>en-US</dc:language>
  <cp:lastModifiedBy>Amy</cp:lastModifiedBy>
  <cp:lastPrinted>2000-06-07T20:51:43Z</cp:lastPrinted>
  <dcterms:modified xsi:type="dcterms:W3CDTF">2012-11-17T22:08:48Z</dcterms:modified>
  <cp:revision>13</cp:revision>
  <dc:subject/>
  <dc:title>PowerPoint Presentation</dc:title>
</cp:coreProperties>
</file>